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94920" y="164520"/>
            <a:ext cx="8381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1808b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3822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80880" y="3692160"/>
            <a:ext cx="83822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94920" y="164520"/>
            <a:ext cx="8381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1808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409032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6040" y="1066680"/>
            <a:ext cx="409032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380880" y="3692160"/>
            <a:ext cx="409032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6040" y="3692160"/>
            <a:ext cx="409032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94920" y="164520"/>
            <a:ext cx="8381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1808b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269892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15160" y="1066680"/>
            <a:ext cx="269892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49440" y="1066680"/>
            <a:ext cx="269892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0880" y="3692160"/>
            <a:ext cx="269892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15160" y="3692160"/>
            <a:ext cx="269892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49440" y="3692160"/>
            <a:ext cx="269892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94920" y="164520"/>
            <a:ext cx="8381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1808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80880" y="1066680"/>
            <a:ext cx="8382240" cy="502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94920" y="164520"/>
            <a:ext cx="8381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1808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382240" cy="502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94920" y="164520"/>
            <a:ext cx="8381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1808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4090320" cy="502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6040" y="1066680"/>
            <a:ext cx="4090320" cy="502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4920" y="164520"/>
            <a:ext cx="8381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1808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94920" y="188640"/>
            <a:ext cx="83818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4920" y="164520"/>
            <a:ext cx="8381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1808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409032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6040" y="1066680"/>
            <a:ext cx="4090320" cy="502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0880" y="3692160"/>
            <a:ext cx="409032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94920" y="164520"/>
            <a:ext cx="8381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1808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380880" y="1066680"/>
            <a:ext cx="8382240" cy="502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94920" y="164520"/>
            <a:ext cx="8381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1808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4090320" cy="502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6040" y="1066680"/>
            <a:ext cx="409032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6040" y="3692160"/>
            <a:ext cx="409032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4920" y="164520"/>
            <a:ext cx="8381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1808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409032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6040" y="1066680"/>
            <a:ext cx="409032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80880" y="3692160"/>
            <a:ext cx="83822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94920" y="164520"/>
            <a:ext cx="8381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1808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3822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80880" y="3692160"/>
            <a:ext cx="83822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94920" y="164520"/>
            <a:ext cx="8381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1808b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409032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6040" y="1066680"/>
            <a:ext cx="409032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80880" y="3692160"/>
            <a:ext cx="409032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6040" y="3692160"/>
            <a:ext cx="409032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94920" y="164520"/>
            <a:ext cx="8381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1808b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269892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15160" y="1066680"/>
            <a:ext cx="269892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49440" y="1066680"/>
            <a:ext cx="269892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80880" y="3692160"/>
            <a:ext cx="269892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15160" y="3692160"/>
            <a:ext cx="269892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49440" y="3692160"/>
            <a:ext cx="269892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94920" y="164520"/>
            <a:ext cx="8381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1808b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382240" cy="502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94920" y="164520"/>
            <a:ext cx="8381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1808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4090320" cy="502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6040" y="1066680"/>
            <a:ext cx="4090320" cy="502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4920" y="164520"/>
            <a:ext cx="8381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1808b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394920" y="188640"/>
            <a:ext cx="83818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94920" y="164520"/>
            <a:ext cx="8381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1808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409032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040" y="1066680"/>
            <a:ext cx="4090320" cy="502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80880" y="3692160"/>
            <a:ext cx="409032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94920" y="164520"/>
            <a:ext cx="8381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1808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4090320" cy="502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040" y="1066680"/>
            <a:ext cx="409032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6040" y="3692160"/>
            <a:ext cx="409032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94920" y="164520"/>
            <a:ext cx="8381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1808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409032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6040" y="1066680"/>
            <a:ext cx="409032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80880" y="3692160"/>
            <a:ext cx="83822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907920"/>
            <a:ext cx="9140760" cy="5384880"/>
          </a:xfrm>
          <a:prstGeom prst="rect">
            <a:avLst/>
          </a:prstGeom>
          <a:solidFill>
            <a:srgbClr val="dddddd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94920" y="188640"/>
            <a:ext cx="838188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1808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61808b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880" y="1066680"/>
            <a:ext cx="8382240" cy="502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d150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1808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77777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95280" y="6381720"/>
            <a:ext cx="93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BF92D-3BD8-452B-A03B-92854B8942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237360"/>
            <a:ext cx="9144000" cy="90360"/>
            <a:chOff x="0" y="6237360"/>
            <a:chExt cx="9144000" cy="90360"/>
          </a:xfrm>
        </p:grpSpPr>
        <p:sp>
          <p:nvSpPr>
            <p:cNvPr id="5" name=""/>
            <p:cNvSpPr/>
            <p:nvPr/>
          </p:nvSpPr>
          <p:spPr>
            <a:xfrm rot="16200000">
              <a:off x="3766680" y="5519520"/>
              <a:ext cx="86400" cy="1523880"/>
            </a:xfrm>
            <a:prstGeom prst="rect">
              <a:avLst/>
            </a:prstGeom>
            <a:solidFill>
              <a:srgbClr val="5fad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6200000">
              <a:off x="718560" y="5518440"/>
              <a:ext cx="86400" cy="1523880"/>
            </a:xfrm>
            <a:prstGeom prst="rect">
              <a:avLst/>
            </a:prstGeom>
            <a:solidFill>
              <a:srgbClr val="fea6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 rot="16200000">
              <a:off x="2242800" y="5519520"/>
              <a:ext cx="86400" cy="1524240"/>
            </a:xfrm>
            <a:prstGeom prst="rect">
              <a:avLst/>
            </a:prstGeom>
            <a:solidFill>
              <a:srgbClr val="f573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6200000">
              <a:off x="5290560" y="5522400"/>
              <a:ext cx="86400" cy="1523880"/>
            </a:xfrm>
            <a:prstGeom prst="rect">
              <a:avLst/>
            </a:prstGeom>
            <a:solidFill>
              <a:srgbClr val="6095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16200000">
              <a:off x="6814800" y="5522400"/>
              <a:ext cx="86400" cy="1524240"/>
            </a:xfrm>
            <a:prstGeom prst="rect">
              <a:avLst/>
            </a:prstGeom>
            <a:solidFill>
              <a:srgbClr val="b87b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rot="16200000">
              <a:off x="8338680" y="5522400"/>
              <a:ext cx="86400" cy="1523880"/>
            </a:xfrm>
            <a:prstGeom prst="rect">
              <a:avLst/>
            </a:prstGeom>
            <a:solidFill>
              <a:srgbClr val="df6a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4343400"/>
            <a:ext cx="9140760" cy="1295280"/>
          </a:xfrm>
          <a:prstGeom prst="rect">
            <a:avLst/>
          </a:prstGeom>
          <a:solidFill>
            <a:srgbClr val="dddddd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240" y="0"/>
            <a:ext cx="9140760" cy="4149720"/>
          </a:xfrm>
          <a:prstGeom prst="rect">
            <a:avLst/>
          </a:prstGeom>
          <a:solidFill>
            <a:srgbClr val="6180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217476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0" y="4111560"/>
            <a:ext cx="9144000" cy="250920"/>
            <a:chOff x="0" y="4111560"/>
            <a:chExt cx="9144000" cy="250920"/>
          </a:xfrm>
        </p:grpSpPr>
        <p:sp>
          <p:nvSpPr>
            <p:cNvPr id="51" name=""/>
            <p:cNvSpPr/>
            <p:nvPr/>
          </p:nvSpPr>
          <p:spPr>
            <a:xfrm rot="16200000">
              <a:off x="3690000" y="3472560"/>
              <a:ext cx="239760" cy="1523880"/>
            </a:xfrm>
            <a:prstGeom prst="rect">
              <a:avLst/>
            </a:prstGeom>
            <a:solidFill>
              <a:srgbClr val="5fad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rot="16200000">
              <a:off x="641880" y="3469320"/>
              <a:ext cx="239760" cy="1523880"/>
            </a:xfrm>
            <a:prstGeom prst="rect">
              <a:avLst/>
            </a:prstGeom>
            <a:solidFill>
              <a:srgbClr val="fea6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rot="16200000">
              <a:off x="2166120" y="3472560"/>
              <a:ext cx="239760" cy="1524240"/>
            </a:xfrm>
            <a:prstGeom prst="rect">
              <a:avLst/>
            </a:prstGeom>
            <a:solidFill>
              <a:srgbClr val="f573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rot="16200000">
              <a:off x="5213880" y="3480480"/>
              <a:ext cx="239760" cy="1523880"/>
            </a:xfrm>
            <a:prstGeom prst="rect">
              <a:avLst/>
            </a:prstGeom>
            <a:solidFill>
              <a:srgbClr val="6095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rot="16200000">
              <a:off x="6738120" y="3480480"/>
              <a:ext cx="239760" cy="1524240"/>
            </a:xfrm>
            <a:prstGeom prst="rect">
              <a:avLst/>
            </a:prstGeom>
            <a:solidFill>
              <a:srgbClr val="b87b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rot="16200000">
              <a:off x="8262000" y="3480480"/>
              <a:ext cx="239760" cy="1523880"/>
            </a:xfrm>
            <a:prstGeom prst="rect">
              <a:avLst/>
            </a:prstGeom>
            <a:solidFill>
              <a:srgbClr val="df6a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777777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80808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esw.w3.org/topic/HCLS/ACPPTaskForce/GuidelinesIndicationsForCABG" TargetMode="Externa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23640" y="2174760"/>
            <a:ext cx="8521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daptable Clinical Pathways and Protoco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395280" y="4653000"/>
            <a:ext cx="83059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CLS F2F Mee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msterdam, The Netherl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ct. 3-4,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4920" y="188640"/>
            <a:ext cx="838188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1808b"/>
                </a:solidFill>
                <a:latin typeface="Arial"/>
              </a:rPr>
              <a:t>Charters</a:t>
            </a:r>
            <a:endParaRPr b="1" lang="en-US" sz="3200" spc="-1" strike="noStrike">
              <a:solidFill>
                <a:srgbClr val="61808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382240" cy="502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d150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descriptive mechanism that expresses the tasks involved in protocol and process definiti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d150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collection of core vocabulary that express pre-defined logical connections between steps, including conditionality, sequence, process branching and synchroniz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d150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et of generic mechanisms that govern the selection of clinical pathways and protocols in any given contex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d150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mechanism for specifying clinical indications and contra-indications for inferred pathway steps, sufficiently generic enough portable across different pathway invoca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d150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mechanism that discerns and documents the possible adverse effects when merging clinical pathways or detecting inter process collision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d150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mechanism that records and handles execution variances from clinical pathw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94920" y="188640"/>
            <a:ext cx="838188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1808b"/>
                </a:solidFill>
                <a:latin typeface="Arial"/>
              </a:rPr>
              <a:t>Use Cases 1 ER Stroke Management</a:t>
            </a:r>
            <a:endParaRPr b="1" lang="en-US" sz="3200" spc="-1" strike="noStrike">
              <a:solidFill>
                <a:srgbClr val="61808b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7520" y="958680"/>
            <a:ext cx="9061560" cy="585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94920" y="188640"/>
            <a:ext cx="838188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1808b"/>
                </a:solidFill>
                <a:latin typeface="Arial"/>
              </a:rPr>
              <a:t>Use Case 2 CABG</a:t>
            </a:r>
            <a:endParaRPr b="1" lang="en-US" sz="3200" spc="-1" strike="noStrike">
              <a:solidFill>
                <a:srgbClr val="61808b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382240" cy="502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d150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C/AHA Guidelines and Indications for Coronary Artery Bypass Graft Surg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d150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777777"/>
                </a:solidFill>
                <a:uFillTx/>
                <a:latin typeface="Arial"/>
                <a:hlinkClick r:id="rId1"/>
              </a:rPr>
              <a:t>Deta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94920" y="188640"/>
            <a:ext cx="838188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1808b"/>
                </a:solidFill>
                <a:latin typeface="Arial"/>
              </a:rPr>
              <a:t>ACPP Main Constructs</a:t>
            </a:r>
            <a:endParaRPr b="1" lang="en-US" sz="3200" spc="-1" strike="noStrike">
              <a:solidFill>
                <a:srgbClr val="61808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382240" cy="502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d150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tient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d150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d150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condi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d150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tcondi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d150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d150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fer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94920" y="188640"/>
            <a:ext cx="838188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1808b"/>
                </a:solidFill>
                <a:latin typeface="Arial"/>
              </a:rPr>
              <a:t>Key Issues Facing ACPP</a:t>
            </a:r>
            <a:endParaRPr b="1" lang="en-US" sz="3200" spc="-1" strike="noStrike">
              <a:solidFill>
                <a:srgbClr val="61808b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382240" cy="502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d150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mporal Conce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d150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ighted Condi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d150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clusion and Scoped Neg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d150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-position (context) of a knowledge body (eviden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4T15:38:08Z</dcterms:created>
  <dc:creator>Helen Chen</dc:creator>
  <dc:description/>
  <dc:language>en-US</dc:language>
  <cp:lastModifiedBy>agfa</cp:lastModifiedBy>
  <dcterms:modified xsi:type="dcterms:W3CDTF">2006-10-02T21:29:01Z</dcterms:modified>
  <cp:revision>17</cp:revision>
  <dc:subject/>
  <dc:title>Amsterdam F2F </dc:title>
</cp:coreProperties>
</file>